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zapbig0g.wav" ContentType="audio/x-wav"/>
  <Override PartName="/ppt/media/zipdn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4E4-36F0-4D47-9E3E-62CF10AB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F2B-FA6C-40BF-81E2-BCDB8531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29E-DA4C-41D0-83B3-5288A166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96B-7C5E-4F9A-91F9-5BBB5A99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E49-1F57-48B6-BB37-1E019BA2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57A-CE77-4892-BE95-BB32F37D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58E-0ED5-42D9-9135-850BFFB7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9AC-3BDF-4931-A1D9-3652B583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9D3-62C0-48DA-87C1-DD0CFD83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64E-4FAA-4E32-A8C3-0FA7F8C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580-9990-4469-9EFB-204EF8A4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D90-76B6-4BE4-99F7-0AF0B50A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7CA8-C62F-49F0-8BCE-660A365AA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bserie06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jetflyby2.wav"/><Relationship Id="rId22" Type="http://schemas.openxmlformats.org/officeDocument/2006/relationships/audio" Target="../media/jetflyby2.wav"/><Relationship Id="rId23" Type="http://schemas.openxmlformats.org/officeDocument/2006/relationships/audio" Target="../media/bserie06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zipdn102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bserie06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audio" Target="../media/bserie06.wav"/><Relationship Id="rId18" Type="http://schemas.openxmlformats.org/officeDocument/2006/relationships/audio" Target="../media/zipdn102.wav"/><Relationship Id="rId19" Type="http://schemas.openxmlformats.org/officeDocument/2006/relationships/audio" Target="../media/bserie06.wav"/><Relationship Id="rId20" Type="http://schemas.openxmlformats.org/officeDocument/2006/relationships/audio" Target="../media/highchime.wav"/><Relationship Id="rId21" Type="http://schemas.openxmlformats.org/officeDocument/2006/relationships/audio" Target="../media/bserie06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zipdn102.wav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3720" y="984240"/>
          <a:ext cx="6095880" cy="5200560"/>
        </p:xfrm>
        <a:graphic>
          <a:graphicData uri="http://schemas.openxmlformats.org/drawingml/2006/table">
            <a:tbl>
              <a:tblPr/>
              <a:tblGrid>
                <a:gridCol w="755280"/>
                <a:gridCol w="53406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bility R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452960" y="156996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3160" y="214956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the digits divisible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4680" y="27288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2 digits divisible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3680" y="329256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 with a 5 or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000" y="388620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2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4680" y="4449600"/>
            <a:ext cx="45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3 digits divisible by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9000" y="501480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the digits divisible by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1960" y="5594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s with a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19920" y="14778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10640" y="147636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19920" y="205596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10640" y="2054160"/>
            <a:ext cx="100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5760" y="26654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6480" y="266400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50160" y="32608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40520" y="325908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0160" y="377820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40520" y="377676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4389480"/>
            <a:ext cx="10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39080" y="4373640"/>
            <a:ext cx="12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50160" y="4967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40520" y="4965840"/>
            <a:ext cx="10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04080" y="55022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26320" y="5500800"/>
            <a:ext cx="141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first number is a factor of the second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9800" y="1906560"/>
                <a:ext cx="2298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; 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 txBox="1"/>
          <p:nvPr/>
        </p:nvSpPr>
        <p:spPr>
          <a:xfrm rot="559800">
            <a:off x="1328400" y="2274480"/>
            <a:ext cx="9334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Y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213000" y="1890720"/>
                <a:ext cx="2298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; 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 txBox="1"/>
          <p:nvPr/>
        </p:nvSpPr>
        <p:spPr>
          <a:xfrm rot="559800">
            <a:off x="4183200" y="2193840"/>
            <a:ext cx="6858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No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108840" y="1860480"/>
                <a:ext cx="2298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; 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 txBox="1"/>
          <p:nvPr/>
        </p:nvSpPr>
        <p:spPr>
          <a:xfrm rot="559800">
            <a:off x="7155000" y="2147760"/>
            <a:ext cx="685800" cy="250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No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182600" y="5372280"/>
                <a:ext cx="29448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; 1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 txBox="1"/>
          <p:nvPr/>
        </p:nvSpPr>
        <p:spPr>
          <a:xfrm rot="559800">
            <a:off x="4559040" y="3943080"/>
            <a:ext cx="9334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lin ang="7542000"/>
                </a:gradFill>
                <a:latin typeface="Arial Black"/>
              </a:rPr>
              <a:t>Y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efefe"/>
                  </a:gs>
                </a:gsLst>
                <a:lin ang="7542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the first number is a factor of the second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28680" y="1906560"/>
                <a:ext cx="2581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; 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548240" y="1890720"/>
                <a:ext cx="3225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; 2,0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5200" y="4146480"/>
                <a:ext cx="3225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; 2,5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19440" y="4091040"/>
                <a:ext cx="3186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; 4,1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 txBox="1"/>
          <p:nvPr/>
        </p:nvSpPr>
        <p:spPr>
          <a:xfrm>
            <a:off x="1692360" y="2693880"/>
            <a:ext cx="64764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73840" y="2709720"/>
            <a:ext cx="8856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60680" y="4933800"/>
            <a:ext cx="8856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62720" y="4843440"/>
            <a:ext cx="647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0280" y="762120"/>
            <a:ext cx="82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ll whether each number is divisible by 2, 3, 4, 5, 6, 8, 9, and 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7120" y="1952640"/>
                <a:ext cx="2862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,5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16080" y="267480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851120" y="267336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62480" y="1876320"/>
                <a:ext cx="3508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5,6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379760" y="2614680"/>
                <a:ext cx="7113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076720" y="261288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662440" y="2583000"/>
                <a:ext cx="7113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337440" y="25988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023240" y="261288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709040" y="25988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348760" y="2568600"/>
                <a:ext cx="795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4960" y="3586320"/>
                <a:ext cx="32259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2,4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33480" y="4324320"/>
                <a:ext cx="7110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60600" y="4307040"/>
                <a:ext cx="711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271600" y="4338720"/>
                <a:ext cx="628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0960" y="3584520"/>
                <a:ext cx="32256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9,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94440" y="430704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200" y="5241960"/>
                <a:ext cx="314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9,0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839880" y="5973840"/>
            <a:ext cx="30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None of the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3600" y="5241960"/>
                <a:ext cx="3225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5,4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48480" y="5979960"/>
                <a:ext cx="626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37440" y="596412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991200" y="5979960"/>
                <a:ext cx="669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47, 6 – 1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2T12:14:28Z</dcterms:modified>
  <cp:revision>60</cp:revision>
  <dc:subject/>
  <dc:title>Slide 1</dc:title>
</cp:coreProperties>
</file>